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B21-DBBA-4A36-A090-0F471651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C9C-DB69-4DD0-9249-A0FD0F4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557-92DE-4333-B109-6502DAF2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DD1-3710-401D-BAC1-1B7417F5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ED5A-6F0A-4094-A233-8676BC69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1272-E3A7-4B53-BA06-EE7651BF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D087-AEA0-44F6-A132-E464FD96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95B-FA7D-4413-AF48-E4BC399A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B961-D615-476E-B166-045282B1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A018-A0B3-49A0-BDD1-4E546376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F8AF-F6A3-4686-A0E8-FA03F527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9FB-F1BF-41A5-916D-C099F639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1D01-41CA-4E2E-ADAD-8DDA82C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276-42B1-4F66-88C2-010AFCE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83DF-54C6-4572-81A3-A08DC7B4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A1AD-246B-41C5-AB1A-679992AF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75A1-F9F4-4183-ABC4-6F9E5356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C74-7A90-40CE-B0E7-B5403154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04D-65B8-4AAB-8C40-5AF30B24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67F-7549-4960-947B-5DB67DC5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9A7-0394-4E01-9D08-CED87F92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9F1-7E49-40E8-A658-B788DD04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6E2-D556-48FF-A234-E336A19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8DD-6C3F-457A-BC73-2E9AE52C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9DD2-C835-40E8-AD1D-564F8820AF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1512-98FC-41B5-A762-DA0B1A48D0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PATCHES ON OLD GARME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9:16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2:21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; Luke 5: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Conflict of Old and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me as the previous parable - Jesus is in Galilee eating in Matthew’s house with publicans and sin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Question of fas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question came from Joh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iples – Matthew 9: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also came from the Pharisees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2: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hristianity is no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n Judaism; It is not an abridgement of, addition to, or syncretism with the Law of Mo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totall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arment, suit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new privileges and bless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To try and mix the two w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stroy the purpose of b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daism – the OLD garment is worn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declared 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 aging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nigh unto passing a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31:31-3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5:17-19 is a gros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isunderstanding of Jesus’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ntent in relation to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Verses 17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is explanation is in v. 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ith all it types, shadows and blue-prints – once fulfilled, totally loses its significance and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L”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til (always signifi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thereafter). Limits the Law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n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‘to the time that…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3:19 – the law was add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until the seed com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as a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tutor unto Christ’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ow that Christ has come,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we are no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longer under a tuto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s. 24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hristianity inaugurates a totally new economy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 remodeling of the old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new in authority, governmen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erritory, fellowship, destiny, purpose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derstanding and sco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phets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ld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promised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opl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o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Psalm 40: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62: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Covena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Jer. 31:31-34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Thing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40:9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ven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Earth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65:2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5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r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piri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Ezek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36:3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 honored Passover must find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fulfillment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in Chris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desired to eat the Passover with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postles – the last tim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t would have Jewis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ignificanc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n it was prophetic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w Meaning!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Luke 22:16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eat it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Luke 22:18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kingdom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comes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Matthew 26:19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I drink it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new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4. 1 Corinthians 5:7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our Passover…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sacrificed… even Christ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othing in the Law is incumbent on the church – Eph. 2:14-16; Col. 2:13-17; Gal. 3:15-19, 21-31; 5:2-6.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8:00:03Z</dcterms:created>
  <dc:creator>Jerry Cantrell </dc:creator>
  <dc:description/>
  <dc:language>en-US</dc:language>
  <cp:lastModifiedBy>Jerry Cantrell </cp:lastModifiedBy>
  <dcterms:modified xsi:type="dcterms:W3CDTF">2006-02-13T10:42:06Z</dcterms:modified>
  <cp:revision>11</cp:revision>
  <dc:subject/>
  <dc:title>LESSON 4 NEW PATCHES ON OLD GARMENTS</dc:title>
</cp:coreProperties>
</file>